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CC1-B575-4144-9D79-E5570CE7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3A6-87BF-40F5-A41B-F351D69C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288-188E-4F16-8ED6-8BF4AAE8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004-7CF6-474A-8F10-3CC42DB2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4E5B-C6C9-413F-B2FA-A38D0278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FFCD-8402-42E9-9A51-D652EB8C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9CF5-70DA-47EB-B54D-F7FC67C3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83DF-6B1D-4C5C-8510-17C6A0EA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50AB-F15E-4DB4-B26C-92AB36D3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FB20-3784-4CB2-B6A2-0DF44478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6F75-4418-4A1C-88BC-0A519170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8EE-8563-4851-8032-BEE88F65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12AA-BFBD-4A40-877C-04E13BD9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775C-227F-480E-8B1D-200224DB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CB59-B23B-4341-9E85-635289E4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488F-C138-4539-8AFF-13B74EA5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E0A2-7B6D-4326-AB0F-A820D562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160-95AA-49E1-B6E3-23D95A76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50F-BEEE-4E9C-A625-A0B22B02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F95-E0F1-4D23-A620-CDF25178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398-E317-46DB-B08F-B484487C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61B-2C3E-4F9A-A10A-81BFF0AB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B2D-1A0F-4223-A28D-028B62FA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413-57B6-45ED-824C-0C844A81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3D61-357B-46C3-97EC-D2CF652F4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2B53-A832-4669-A48F-7C6BA3359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2 – World History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3 – Regional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or Detaile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ric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Kenyatta; Nyr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eric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Peron; Cas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a and Ocean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Mao; Suka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Europe and Middle Ea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Hitler; Stalin; Nas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igins and rise of nationalist/independence movements in Africa and Asia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ti-colonialism; nationalism; impact of wars; other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med struggle; non-violent methods; role of leaders; poli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llenges to Soviet control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igins; role of leaders;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ation of new government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lonial legacy; conflict with neighbours; political experience; economics, social issues, ethnic mov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or Detailed Study - Africa &amp;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ric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 Algeria; Angola; Belgian Congo/Zaire; Ghana; Rhodesia/Zimbabw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a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dia and Pakistan; Indone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aders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n Bella; Ho Chi Minh; Jinnah; Gandhi; Mugabe; Nkruma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or Detailed Study -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vemen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Czechoslovakia,  Hungary, Poland, Yugoslavia (dissolution and successor st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ad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Walesa, Ha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The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Origins of the Cold War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ideology; mutual fear; wartime allies to post-war enemi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Nature of the Cold War :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deology; superpowers and spheres of influence; alliances and diplomac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 and impact :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lobal spread; containment etc.; role of UN and non-aligned; arms race; leaders; social impac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End of Cold War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break up of Soviet Union; breakdown of Soviet control over E. Europ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 for Detailed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artime conferences - Yalta and Potsd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US polices and developments in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oviet Policies in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ino-Soviet re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US-Chinese re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ermany, Congo, Afghanistan, Korea, Cuba, Vietnam, Middle E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astro, Gorbachev, Kennedy, Mao Reagan, Stalin, Trum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and the Middle E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me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ia and Oce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e: Nasser is now part of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s – Pap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25652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b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y det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oken down into narrow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3 -15 and 16 -2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.will replace 11-13, 14 -16 and 17 -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ll this lead to slightly more generous awarding of mark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storiography - Markband 10-12 through 16-20 and clar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2 and Paper 3 markbands are diffe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for detailed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s: 1900-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Topics not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2 &amp;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Questions per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or detaile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b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 2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5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Questions on each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open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pecific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question on social, economic or gender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question will require examples from two different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Question will require comparison or be based on a qu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 2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idates answer 2 questions, each selected from a different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parameters are 1900-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th 25% (HL) 45% (S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 2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ents need to know their dates so that they can support their arguments with good, accurat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storiography needs to be used with discretion – a little goes a long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storiography is not a substitute for the candidate’s own knowledge” (P. 11 of Subject 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 2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2 is a global twentieth century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courage students to think outside of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irst World War, for instance, took place on many fronts...not just the Wes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ld War Two began in 1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rigins of the Cold War could mention Asia as Question 21 will usually cover the period from 1945 -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 2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total/limted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tarian vs Dictator vs Totalitar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 war vs r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year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History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pic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auses practices and effects of w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pic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mocratic States - challenges &amp;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pic 3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igins &amp; development of authoritarian &amp; single party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History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pic 4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tionalist and independence movements in Africa and Asia and post 1945 central and eastern European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pic 5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ld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Different types and nature of warfare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civil; guerrilla; limited; total (no revolutionar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Origins and causes of wars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long and short term; immediate; economic; ideological; political; and religio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Nature of 20</a:t>
            </a:r>
            <a:r>
              <a:rPr b="0" lang="en-GB" sz="2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 Century wars: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chnological; home front; resista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Effects and results :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eace settlements; collective security; impact of war on politics, territory and economic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aterial for Detailed Stu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First World W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Second World W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Afric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: Algerian War (1954 -62); Nigerian civil war (1967 -70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America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: Falklands/Malvinas War (1982); Nicaraguan Revolution (1976 -9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Asia and Oceani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: Indo-Pakistan wars (1947 -9, 1965, 1971); Chinese civil war (1927 -37, 1946 -9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Europe and Middle Eas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: Spanish civil war (1936 -39); Iran-Iraq War (1980 -88); Gulf War (1991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Nature and structure of democratic (multiparty) states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constitutions; electoral systems; role of political parties; role of pressur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Economic and social policies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employment; gender; health; education; social welf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Political, social and economic challenges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political extremism; ethnicity; religion; gender; civil rights; inequitable distribution of weal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terial for Detailed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fric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South Africa 1991 -2000, Nigeria 1961 -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eric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Argentina ( 1983 – 95), Canada 1968 -84, United States 1953 -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ia and Oceani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– India 1947 -64, Japan 1945 -52, Australia 1965 -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Europe and Middle Eas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– France 1958 -69, GB and Northern Ireland 1967 -90, Weimar Germany 1919 -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Origins and nature of single party states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ise of; emergence of leaders; totalitarianism (this has move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Establishment of single party states 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methods; ideology; nature and extent of opposi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Domestic policy and impact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structure and organisation of government; political, economic, social and religious policies; education, art, propaganda; status of women, treatment of religious groups and minorities (no foreign polic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6:28:39Z</dcterms:created>
  <dc:creator>smithdm</dc:creator>
  <dc:description/>
  <dc:language>en-US</dc:language>
  <cp:lastModifiedBy>LTCHS</cp:lastModifiedBy>
  <cp:lastPrinted>2009-04-22T19:24:48Z</cp:lastPrinted>
  <dcterms:modified xsi:type="dcterms:W3CDTF">2008-04-17T19:20:58Z</dcterms:modified>
  <cp:revision>35</cp:revision>
  <dc:subject/>
  <dc:title>External Assess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